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Kempenf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Nottawasa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7179-D807-4EE6-B515-7587A76BF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4B7A-2ECC-4679-8324-B3158C590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4A51-0581-4969-846E-0AB5C1FFA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ECC8-47CC-48C4-B04E-D6E9E069D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82CA-AB0A-4A1A-92B3-29A5FD565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ACE5-1DCB-4B50-8256-A62BB2B4C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43D3-57E1-48AD-A4C8-138A82528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5663-1186-424B-B13B-3910E7419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1102-BF8E-4712-A91B-F1210E5C0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FA8E-C215-4C22-B252-297D03542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323E-14E7-486F-9310-0AB7EEFE2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A383-E117-4881-B95E-EFE7D73F6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7B56-3C72-4FC2-84C6-CD350727A9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FC4B-B172-48CB-A1B2-6AE760815C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4:  Working With Students Who Are Strugg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</a:rPr>
              <a:t>Context -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create a profile of the struggling learner and identify how learning style, student self-efficacy and engagement play a role in student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explore available materials and connect strategies presented to my teach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DC9A-2922-4FAE-96E2-68581190F6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fore/Part 1/Minds O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students struggle?  What does a struggling student look like?  Sound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struggling student using words or phrases on sticky notes and share your ideas with your table grou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groups stack common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0BFA-CD1C-419D-85D8-FB27A7EC9C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59E7-1671-4275-B566-C818777636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uring/Part 2/Actio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Centr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One:  Hands-On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Two:  Electronic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Three:  Digging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Four:  Guid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this approach and the associated questions support struggling learners?  All learn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B826-CCDD-4B7E-B969-4BEAB12767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fter/Part 3/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this approach and the associated questions support struggling learners?  All lear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your thoughts with an elbow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5DCF-6EA5-44BA-B5A1-5C7B6434D6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shing for Your Thou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he following qu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 great fisherman, you have to think like a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note a couple of thoughts in your journal, and attach the fish charm to your fishing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1369-EB47-45D4-91C6-35D4893745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shing for Your Thou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ould like to send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way with our 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Fishes”, and thos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uddies from the fishing lodge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travels an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the holes in your net be no larger than the fish in it!” (Irish bless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3AA5-342C-4067-999D-CBA4627D08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cchaput\Local Settings\Temporary Internet Files\Content.IE5\O1MRSPYJ\MP900438393[1].jpg"/>
          <p:cNvPicPr/>
          <p:nvPr/>
        </p:nvPicPr>
        <p:blipFill>
          <a:blip r:embed="rId1"/>
          <a:stretch/>
        </p:blipFill>
        <p:spPr>
          <a:xfrm>
            <a:off x="5486400" y="1295280"/>
            <a:ext cx="2895480" cy="194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S</cp:lastModifiedBy>
  <dcterms:modified xsi:type="dcterms:W3CDTF">2011-08-12T14:46:20Z</dcterms:modified>
  <cp:revision>8</cp:revision>
  <dc:subject/>
  <dc:title>&lt;Title&gt;</dc:title>
</cp:coreProperties>
</file>